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9EFC-A813-47F1-94AA-7CA0C5081B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whether the following diagrams illustrate acceleration or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your paper from 1 to 5 and answer A if you think it is showing acceleration or E if you think it is showing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hether the following diagrams illustrate acceleration or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your paper from 1 to 5 and answer A if you think it is showing acceleration or E if you think it is showing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B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: acceleration     B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: acceleration     B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750-F9E3-435D-BF27-F331A357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0B85-6121-47C8-9E19-F6BAEAD4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F3E8-A940-4189-AAB4-BC1E351F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9760-6B39-4907-8C6B-3D6AAC5F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363-342D-4349-958D-BF64C2E2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90AA-E562-48C3-8118-D01B3B1D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DDFC-31E6-4B6F-A756-39373D39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FE67-92B2-4EFE-8F5C-2FB6CA27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D768-3270-4E31-BC3A-0E99AC7B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B94E-C23C-4D02-AD9E-403FCDF5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913F-5D65-4F21-9291-79CE3286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9179-8CCA-4898-82EE-279C61E7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43F6-57AA-42DF-B933-984EB6907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ether the following diagrams illustrate acceleration or equilibr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your paper from 1 to 5 and answer A if you think it is showing acceleration or E if you think it is showing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886200" y="3276720"/>
            <a:ext cx="17524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4800600" y="403848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 flipH="1">
            <a:off x="2666520" y="40384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209680" y="3352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095880" y="3200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809880" y="3505320"/>
            <a:ext cx="2133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4952880" y="40384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624852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429000" y="2971800"/>
            <a:ext cx="22096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4495680" y="3581280"/>
            <a:ext cx="228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4495680" y="403848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990360" y="3733920"/>
            <a:ext cx="3352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752480" y="2971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94360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609588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581280" y="2438280"/>
            <a:ext cx="13716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4191120" y="30481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4191120" y="29718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74320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56272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200400" y="3276720"/>
            <a:ext cx="175248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4038480" y="3962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4114800" y="22093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4191120" y="380988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 flipH="1">
            <a:off x="2362320" y="3809880"/>
            <a:ext cx="1676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3733920" y="1676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3581280" y="5943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129528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6095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4267080" y="58672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=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886200" y="2514600"/>
            <a:ext cx="17524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472428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 flipH="1">
            <a:off x="266652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5909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79132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762120" y="3049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886200" y="3276720"/>
            <a:ext cx="17524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800600" y="403848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H="1">
            <a:off x="2666520" y="40384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209680" y="3352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095880" y="3200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09880" y="3505320"/>
            <a:ext cx="2133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4952880" y="40384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624852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3429000" y="2971800"/>
            <a:ext cx="22096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4495680" y="3581280"/>
            <a:ext cx="228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4495680" y="403848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990360" y="3733920"/>
            <a:ext cx="3352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1752480" y="2971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94360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09588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581280" y="2438280"/>
            <a:ext cx="13716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>
            <a:off x="4191120" y="30481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4191120" y="29718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74320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56272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B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00400" y="3276720"/>
            <a:ext cx="175248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4038480" y="3962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 flipV="1">
            <a:off x="4114800" y="22093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4191120" y="380988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2362320" y="3809880"/>
            <a:ext cx="1676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733920" y="1676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581280" y="5943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29528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6095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886200" y="2514600"/>
            <a:ext cx="17524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72428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 flipH="1">
            <a:off x="266652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5909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79132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762120" y="3049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124080" y="47242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=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9:20:03Z</dcterms:created>
  <dc:creator>vanattab</dc:creator>
  <dc:description/>
  <dc:language>en-US</dc:language>
  <cp:lastModifiedBy>RomaK</cp:lastModifiedBy>
  <dcterms:modified xsi:type="dcterms:W3CDTF">2015-09-03T12:16:46Z</dcterms:modified>
  <cp:revision>3</cp:revision>
  <dc:subject/>
  <dc:title>A: acceleration     B:equilibrium</dc:title>
</cp:coreProperties>
</file>